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8A0C-A88E-439F-986F-6893C4828AF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4846-1D56-416F-B7DF-461F3DB1AF1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76AD-1EA7-4B9E-A838-F5C41121BDD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B66A-AEA3-4522-8C2E-AEDFC6274FB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0987-BD8F-4239-BBCE-373AB4568C4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E097-3ED1-4763-A1CD-F0C5B8F4C13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D52D-D1C4-4734-979E-D24890F3F99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E2DD-8314-4F27-91E4-935D8D85E4E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DA83-24BA-40EC-A838-7657D308AC7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5640-143C-4454-860D-17D00A234D2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2A83-978F-4747-B67C-64E19F7E89C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9A8F4-D491-409D-91A9-3AC91F3851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721BF-9F1A-443E-803A-6EFB62B5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7179A-C4D7-4692-8DC8-914FA8B8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8EFE6-542A-4A54-9D30-0709DAF421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851BC-ABBC-40CE-902B-DCCC4369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35572-E771-4D30-A404-E2FBA7BE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70E7E-ABC1-4D12-88D3-AF54537A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7D8D1-2A4F-4A02-A917-6B4A86938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B4F20-687D-47AE-8AF5-70D44761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D6101-D128-41C1-B84D-A41D37AF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B5426-A2D4-45D8-A2C3-9C87BF0C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0F8C3-04AA-4DA8-BF5E-06CB80CF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9C27-C7AD-46F2-9522-0ED4911FA4E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治疗心绞痛药物</a:t>
            </a:r>
            <a:endParaRPr b="1" lang="en-US" sz="4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常见不良反应多因血管扩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颈部和面部皮肤潮红、搏动性头痛及眼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及青光眼患者禁用本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大剂量可引起高铁血红蛋白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硝酸甘油连续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易产生耐受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口服药物使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服药前应告诉患者可能出现搏动性头痛及面颈部皮肤潮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发作时应取坐位或半卧位用药，将药片放于舌下含服，不可吞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含服一片硝酸甘油后心绞痛未能缓解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可再用一次，紧急时可用牙齿咬碎使药物尽快溶化。连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片不能缓解应立即就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口服药物使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药物的保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应放置患者和家属都知道的地方，以备急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储存在棕褐色的密闭的小玻璃瓶中，防止受潮受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存期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失效药物不宜再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289160"/>
            <a:ext cx="861048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外用药物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要保证皮肤清洁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膏药应帖敷于躯干、前胸、上腹部或上肢干燥无毛发处，勿贴于皮肤皱折，关节及瘢痕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软膏用药棒（棉签）均匀涂在专用的药用纸上，每次涂抹的范围大小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每次用药前将皮肤表面残存的药物清理干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要按摩敷药局部，经常变换用药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052280"/>
            <a:ext cx="86104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静脉滴注硝酸甘油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前及用药中应监测血压、脉搏和面部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掌握好给药速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~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用现配，分次少量配制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液瓶和莫非管要用玻璃容器或特殊胶管须用黑布或黑纸包裹，药液要避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外出时随身携带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告诉患者有关冠心病的自我护理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硝酸异山梨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属长效硝酸酯类，作用较弱，用于预防和缓解心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舌下含化起效较硝酸甘油稍慢，但维持时间较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须注意患者对硝酸异山梨酯个体反应差异较大，一些患者更容易发生体位性低血压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单硝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异山梨酯的活性代谢产物，口服经胃肠道迅速吸收，生物利用度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用与硝酸异山梨酯相同，用于防治心绞痛的发作及心肌梗死后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初期可出现血压降低，偶见头痛、心悸、头晕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：阻断心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１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使心率减慢，心肌收缩力减弱，血压降低等，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改善缺血区心肌的供血供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改善心肌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稳定型及不稳定型心绞痛，减少发作次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硝酸酯类不敏感或疗效差的稳定型心绞痛有效，伴有高血压、心率快或心律失常者更适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变异型心绞痛无效或甚至使症状加重，病情恶化，可能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被阻断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活性相对增高，致外周血管和冠状动脉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三）体内过程和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首关效应明显，生物利用度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个体差异大，</a:t>
            </a:r>
            <a:r>
              <a:rPr b="0" i="1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约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效慢，口服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才出现降压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个体差异大，应从小剂量开始，根据病情增减剂量，以达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抗心肌缺血的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557000"/>
            <a:ext cx="8304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硝酸甘油、普萘洛尔治疗心绞痛的药理作用、临床应用、不良反应和药疗监护须知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两类药物合用的药理学基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熟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异山梨酯、钙拮抗剂的作用及作用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心绞痛药物的分类及主要代表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四）不良反应和禁忌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的不良反应为消化道症状如恶心、呕吐或轻度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动过缓、房室传导阻滞、心功能不全患者慎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哮喘患者禁用非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，慎用美托洛尔等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五）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长期服用此药者不能随意骤然停药、漏服，必须于停药前两周内逐渐减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药过程中监测心率、血压和心电图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因食物能延缓普萘洛尔吸收，故应在饭前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服用本药应戒烟，以免降低药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阿替洛尔（氨酰心安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美托洛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两药均为选择性心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断剂，作用与普萘洛尔相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血管及支气管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影响小，但较大剂量时对血管及支气管平滑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也有作用，有哮喘的患者仍应慎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5280" y="119664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富马酸比索洛尔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bisoprolol fumarate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治疗剂量范围内，没有明显的膜稳定作用或内在拟交感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肝肾功能不全的患者，使用初始剂量要减低，在剂量递增时要谨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呼吸道反应以及糖脂代谢的影响较美托洛尔小，但在大剂量使用时，由于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的作用增强，应特别加强监测呼吸道症状和心率、血压，定期检查血糖、血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扩张冠状动脉，改善缺血区供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保护缺血心肌细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抑制血小板聚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心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急性心肌梗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三）体内过程和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吸收良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起效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达最大效应，作用维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部分经肝代谢，由尿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，急用时可舌下含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咽部喷药；缓释片拜心痛；控释片拜心同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mg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；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四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常见不良反应与其扩张血管作用相关，表现为颜面潮红、头痛、反射性心率加快等。严重者可出现低血压、外周组织水肿，以踝、足、小腿水肿较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胃肠功能紊乱可引起恶心、腹胀或便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血压过度降低可导致脑组织或心肌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偶可发生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五）药疗监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监测血压和心率，控制好剂量和给药时间，以防血压过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本药的缓释或控释剂型应整片服用，指导患者勿掰开或嚼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服药期间不要饮用含酒精的饮料，以防发生眩晕及低血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药期间应注意保持口腔卫生，以降低牙龈增生发生率及严重程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维拉帕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 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verapamil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二氢吡啶类钙通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用于兼有冠心病、高血压的心律失常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及禁忌证与硝苯地平相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不全者禁用。洋地黄中毒时，绝对禁用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合用，易引起低血压、心动过缓、传导阻滞，甚至停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地尔硫䓬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diltiazem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苯噻氮䓬类钙拮抗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接减慢心率的作用较强，可减轻心脏工作负荷及减少心肌耗氧量，解除冠脉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和禁忌证与硝苯地平类同，其发生率较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地尔硫䓬和维拉帕米的患者心率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时，应警惕可能发生心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心绞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冠状动脉供血不足，心肌急剧并暂时性地缺血和缺氧所引起的临床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治疗心绞痛药物达到治疗目的主要通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心肌耗氧量或扩张冠脉增加心肌供血供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临床上常用抗心绞痛药物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酯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断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钙拮抗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不具有的作用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率加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室壁肌张力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扩张小静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回心血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降低心肌耗氧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变异性心绞痛不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易引起耐受性的抗心绞痛药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心苷中毒最常见的不良反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电图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Q-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间期缩短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头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房室传导阻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恶心、呕吐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低血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圆角矩形 1"/>
          <p:cNvSpPr/>
          <p:nvPr/>
        </p:nvSpPr>
        <p:spPr>
          <a:xfrm>
            <a:off x="468360" y="1413000"/>
            <a:ext cx="8280360" cy="48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患有高血压多年。近期常于休息时感心前区憋闷，诊为变异型心绞痛者，该患者治疗心绞痛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戊四硝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圆角矩形 1"/>
          <p:cNvSpPr/>
          <p:nvPr/>
        </p:nvSpPr>
        <p:spPr>
          <a:xfrm>
            <a:off x="826920" y="1628640"/>
            <a:ext cx="763272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女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近期诊断为心绞痛，该患者伴有青光眼，则心绞痛治疗不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圆角矩形 1"/>
          <p:cNvSpPr/>
          <p:nvPr/>
        </p:nvSpPr>
        <p:spPr>
          <a:xfrm>
            <a:off x="1857240" y="1628640"/>
            <a:ext cx="561672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首过效应大，不宜口服的抗心绞痛药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圆角矩形 1"/>
          <p:cNvSpPr/>
          <p:nvPr/>
        </p:nvSpPr>
        <p:spPr>
          <a:xfrm>
            <a:off x="611280" y="1628640"/>
            <a:ext cx="792144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近期明确诊断为稳定型心绞痛。为迅速缓解心绞痛， 患者应随身携带的药物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消心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26792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圆角矩形 1"/>
          <p:cNvSpPr/>
          <p:nvPr/>
        </p:nvSpPr>
        <p:spPr>
          <a:xfrm>
            <a:off x="539640" y="1268280"/>
            <a:ext cx="8280360" cy="518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4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建筑工人。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作性心前区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余天，再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急诊入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天前骑车上班途中，突感胸痛，并向左肩部放射，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~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，此后间断发作数次，未予诊治。一天前，工作中再次出现上述症状，含服硝酸甘油后胸痛逐渐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内缓解。就诊当日晨，无明显诱因胸痛再次发作，遂来就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初步诊断为：冠状动脉粥样硬化性心脏病：心绞痛。医嘱予以：普蔡洛尔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 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ti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P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；硝酸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ti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P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圆角矩形 1"/>
          <p:cNvSpPr/>
          <p:nvPr/>
        </p:nvSpPr>
        <p:spPr>
          <a:xfrm>
            <a:off x="1116000" y="1989000"/>
            <a:ext cx="7416720" cy="316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b8e3"/>
              </a:gs>
              <a:gs pos="100000">
                <a:srgbClr val="f7ebf8"/>
              </a:gs>
            </a:gsLst>
            <a:lin ang="16200000"/>
          </a:gradFill>
          <a:ln w="9360">
            <a:solidFill>
              <a:srgbClr val="9762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请思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为什么舌下含服硝酸甘油有助于缓解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入院后此联合用药是否合理？为什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作为该患者的责任护士，在使用抗心绞痛药物过程中应注意哪些事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左室充盈压，增加心内膜供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扩张冠状动脉，改善缺血区的血液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减少血小板聚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终止稳定型心绞痛胸痛症状的首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预防心绞痛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选用其油膏或贴膜等制剂敷于胸部和背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急性心肌梗死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心肌耗氧量，并增加缺血区供血及抗血小板聚集和黏附作用，使梗死面积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于治疗重度和难治性心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心脏前、后负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125360"/>
            <a:ext cx="8610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易受首过消除等影响，不宜口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溶性高，常舌下含化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起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作用达高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疗效维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~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甘油也可经皮肤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生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时间可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125360"/>
            <a:ext cx="8610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终止心绞痛发作：片剂需舌下含服，喷雾剂对口腔喷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预防用药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缓释片（胶囊）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软膏制剂：涂于前胸或上腹部皮肤上，面积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~5.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每隔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一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贴膜：剂量大小与接触面积有关，疗效可保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除去药膜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内血药浓度迅速下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针剂溶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生理盐水中，稀释后静脉滴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07:43Z</dcterms:modified>
  <cp:revision>126</cp:revision>
  <dc:subject/>
  <dc:title>内科护理学</dc:title>
</cp:coreProperties>
</file>